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30279975" cy="4280693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027-FF17-4041-9CA8-A1951763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BDE-251C-43E8-879F-E557CA3A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D47-A666-4518-9199-5F023E07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B01-24C0-4ED1-A950-BDC42564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1D6F-9A81-4D86-B475-3961C804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61EA-97D9-4D49-87E7-5B28E2E2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041C-B80E-4A11-9D46-31F3B63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CBF5-B5AB-40B1-B5C4-7C169E2D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A442-1E9A-4150-9F16-85875BD4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A0EB-0D35-4A28-9E44-AD2D7BA0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089-10A5-440F-A1DB-0734D8ED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5A8-1889-4FCB-A69F-A3EB2F32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0A21-D62A-4410-B3D3-D71DA7D5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3A8B-415B-4F97-B1D4-E3414D7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40CC-879B-4E2F-BA82-E24CBC83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D441-21F3-4046-801B-11269C43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8783-6929-4BBD-840B-C913BC80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05DD-CC3C-4E72-B264-1C33D779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2E34-9E00-4C68-859F-1360DA07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A8D0-17D3-49FC-B299-7F4A17A7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2132-3F0E-42BF-BFE4-DC31E5A7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6E9A-24ED-496E-8FDD-6AE5BCEC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458-46DC-4A34-96B1-051EA41D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FD42-5D09-4822-80C8-937E8446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8C4B-64BC-4550-92C6-9D009AF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EAF9-B269-4A65-A140-0A0D8BD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5970E-1E86-4247-B37E-13EB9C41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ED3B-82F1-4EE3-A90C-D5745616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D06B-3D90-4405-A0D3-09576D06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FE2B-CEAE-488F-B829-85CC5117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B1964-33E2-4AA4-AAB1-C44C9C7D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C172C-7944-4AFB-B5F7-4868A772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CD5A-7799-40A7-B615-2706137B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CBF-01AF-4EB6-BF6A-EEC604D9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9CB7-E18D-4B62-99F2-DE167A29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C04C8-2952-400F-8B88-F305AD71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E578-2DCF-4B54-8676-FB54987A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099EB-DEDE-46C8-B371-1787838A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50267-E63D-40A0-AB4F-75A636CE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6D70-AC27-416D-9C9C-3885634F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71E8C-78CF-4867-A5DF-6E5A6751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4294-231D-494F-9381-AC4FC7DC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BBF8-B94A-41AC-B433-B413277D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1F9E3-97E7-4335-8E55-E21905EB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B9A-F33E-46D2-BDEE-1D75424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F42A-061E-4B25-8FB9-CBC98AFE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FE21F-6619-4351-9E9D-175ACEED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E7B9D-911F-4CCE-9EB7-D08265D3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F6C50-7497-4FAC-ADCC-5F3C67BC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2456C-3250-4A59-B8C7-25D72650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C334-9068-4ED5-A032-CD355D59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AFCEB-D058-42DC-83D6-86CA8246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E662A-029E-4EA5-9088-2DFA6E51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019C-DA98-4F77-AEB5-76E42091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D6CED-7001-49C4-90D1-8E03751A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F1D-2FF6-4C74-AB2E-0A7E8D24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912B3-9B7D-411B-99F3-E80251E2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191-A2F5-463B-8E4E-D8CAC498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A97-417A-46C0-8948-8FECDF5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CD8-EAC3-4AC7-85E5-8C783B6F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A9CD-3000-456B-A719-23DA7429297D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圓角矩形 10"/>
          <p:cNvSpPr/>
          <p:nvPr/>
        </p:nvSpPr>
        <p:spPr>
          <a:xfrm>
            <a:off x="216000" y="434880"/>
            <a:ext cx="29847960" cy="41775120"/>
          </a:xfrm>
          <a:custGeom>
            <a:avLst/>
            <a:gdLst>
              <a:gd name="textAreaLeft" fmla="*/ 430920 w 29847960"/>
              <a:gd name="textAreaRight" fmla="*/ 29417040 w 29847960"/>
              <a:gd name="textAreaTop" fmla="*/ 430920 h 41775120"/>
              <a:gd name="textAreaBottom" fmla="*/ 41344200 h 41775120"/>
            </a:gdLst>
            <a:ahLst/>
            <a:rect l="textAreaLeft" t="textAreaTop" r="textAreaRight" b="textAreaBottom"/>
            <a:pathLst>
              <a:path w="21600" h="30231">
                <a:moveTo>
                  <a:pt x="1065" y="0"/>
                </a:moveTo>
                <a:arcTo wR="1065" hR="1065" stAng="16200000" swAng="-5400000"/>
                <a:lnTo>
                  <a:pt x="0" y="29166"/>
                </a:lnTo>
                <a:arcTo wR="1065" hR="1065" stAng="10800000" swAng="-5400000"/>
                <a:lnTo>
                  <a:pt x="20535" y="30231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08080" y="9047160"/>
            <a:ext cx="29874960" cy="953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8080" y="8718480"/>
            <a:ext cx="29874960" cy="7524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208080" y="18579960"/>
            <a:ext cx="29874960" cy="689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44B0-62EB-4BAF-9B57-ADFA0155C61A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圓角矩形 10"/>
          <p:cNvSpPr/>
          <p:nvPr/>
        </p:nvSpPr>
        <p:spPr>
          <a:xfrm>
            <a:off x="216000" y="434880"/>
            <a:ext cx="29847960" cy="41775120"/>
          </a:xfrm>
          <a:custGeom>
            <a:avLst/>
            <a:gdLst>
              <a:gd name="textAreaLeft" fmla="*/ 430920 w 29847960"/>
              <a:gd name="textAreaRight" fmla="*/ 29417040 w 29847960"/>
              <a:gd name="textAreaTop" fmla="*/ 430920 h 41775120"/>
              <a:gd name="textAreaBottom" fmla="*/ 41344200 h 41775120"/>
            </a:gdLst>
            <a:ahLst/>
            <a:rect l="textAreaLeft" t="textAreaTop" r="textAreaRight" b="textAreaBottom"/>
            <a:pathLst>
              <a:path w="21600" h="30231">
                <a:moveTo>
                  <a:pt x="1065" y="0"/>
                </a:moveTo>
                <a:arcTo wR="1065" hR="1065" stAng="16200000" swAng="-5400000"/>
                <a:lnTo>
                  <a:pt x="0" y="29166"/>
                </a:lnTo>
                <a:arcTo wR="1065" hR="1065" stAng="10800000" swAng="-5400000"/>
                <a:lnTo>
                  <a:pt x="20535" y="30231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1"/>
          <p:cNvSpPr/>
          <p:nvPr/>
        </p:nvSpPr>
        <p:spPr>
          <a:xfrm flipV="1">
            <a:off x="230040" y="14834160"/>
            <a:ext cx="29848320" cy="571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28600" y="14616000"/>
            <a:ext cx="29849760" cy="28584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7040" bIns="77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60" y="15411600"/>
            <a:ext cx="29853000" cy="284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49240" y="38527200"/>
            <a:ext cx="1324764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06680" y="39174840"/>
            <a:ext cx="1070280" cy="2017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F861-617F-4A08-9B46-F50E80ADB051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圓角矩形 10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F0F2-82AA-4993-9560-B266B21DB867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9"/>
          <p:cNvSpPr/>
          <p:nvPr/>
        </p:nvSpPr>
        <p:spPr>
          <a:xfrm flipV="1">
            <a:off x="225360" y="29235240"/>
            <a:ext cx="29826000" cy="5716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227160" y="29027520"/>
            <a:ext cx="29824200" cy="287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8480" bIns="78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227160" y="29795760"/>
            <a:ext cx="29824200" cy="3031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94320" bIns="9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027240" y="38527200"/>
            <a:ext cx="1287000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706680" y="39174840"/>
            <a:ext cx="1070280" cy="2017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07D3-2969-4886-8527-12790DAD83FC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xxx@math.ncu.edu.tw" TargetMode="External"/><Relationship Id="rId2" Type="http://schemas.openxmlformats.org/officeDocument/2006/relationships/hyperlink" Target="mailto:xxxx@math.ncu.edu.tw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253"/>
          <p:cNvGrpSpPr/>
          <p:nvPr/>
        </p:nvGrpSpPr>
        <p:grpSpPr>
          <a:xfrm>
            <a:off x="1441440" y="2638440"/>
            <a:ext cx="27739800" cy="2576880"/>
            <a:chOff x="1441440" y="2638440"/>
            <a:chExt cx="27739800" cy="2576880"/>
          </a:xfrm>
        </p:grpSpPr>
        <p:sp>
          <p:nvSpPr>
            <p:cNvPr id="231" name="Text Box 2"/>
            <p:cNvSpPr/>
            <p:nvPr/>
          </p:nvSpPr>
          <p:spPr>
            <a:xfrm>
              <a:off x="1441440" y="2638440"/>
              <a:ext cx="27739800" cy="7520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9e5d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72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一種影像對比強化的變分模型研究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"/>
            <p:cNvSpPr/>
            <p:nvPr/>
          </p:nvSpPr>
          <p:spPr>
            <a:xfrm>
              <a:off x="1441440" y="3737520"/>
              <a:ext cx="27632520" cy="14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專題學生：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XXX</a:t>
              </a: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，國立中央大學數學系 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40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1"/>
                </a:rPr>
                <a:t>xxxxxxx@math.ncu.edu.tw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指導教授：楊肅煜，國立中央大學數學系 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40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2"/>
                </a:rPr>
                <a:t>syyang@math.ncu.edu.tw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651"/>
          <p:cNvSpPr/>
          <p:nvPr/>
        </p:nvSpPr>
        <p:spPr>
          <a:xfrm>
            <a:off x="1432080" y="5697360"/>
            <a:ext cx="27795240" cy="295128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58"/>
          <p:cNvSpPr/>
          <p:nvPr/>
        </p:nvSpPr>
        <p:spPr>
          <a:xfrm>
            <a:off x="23553720" y="57240"/>
            <a:ext cx="669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Times New Roman"/>
              </a:rPr>
              <a:t>National Central University, Taiwan, June  01, 2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547640" y="809640"/>
            <a:ext cx="28022760" cy="100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MA3113: </a:t>
            </a:r>
            <a:r>
              <a:rPr b="1" lang="zh-TW" sz="60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數學影像處理專題期末海報展示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51"/>
          <p:cNvSpPr/>
          <p:nvPr/>
        </p:nvSpPr>
        <p:spPr>
          <a:xfrm>
            <a:off x="1441440" y="9109080"/>
            <a:ext cx="27795600" cy="58928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1386000" y="26368200"/>
            <a:ext cx="27795600" cy="86234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1386000" y="35301240"/>
            <a:ext cx="27795600" cy="278748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字方塊 27"/>
          <p:cNvSpPr/>
          <p:nvPr/>
        </p:nvSpPr>
        <p:spPr>
          <a:xfrm>
            <a:off x="1601640" y="35590320"/>
            <a:ext cx="271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1386000" y="38398320"/>
            <a:ext cx="27795600" cy="33116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字方塊 31"/>
          <p:cNvSpPr/>
          <p:nvPr/>
        </p:nvSpPr>
        <p:spPr>
          <a:xfrm>
            <a:off x="1338120" y="39261960"/>
            <a:ext cx="28232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1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 Brezzi and A. Russo, Choosing bubbles for advection-diffusion proble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h. Models Meth. Appl. Sci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(1994), pp. 571-58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2]  A. Cangiani and E. Suli, Enhanced RFB method, </a:t>
            </a:r>
            <a:r>
              <a:rPr b="0" i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Numer. Math., 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1 (2005), pp. 273-3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3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. P. Franca, S. L. Frey, and T. J. R. Hughes, Stabilized finite element methods: I. application to the AD model,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ut. Methods Appl. Mech. Engr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95 (1992), pp. 253-27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4]  L. P. Franca, J. V. A. Ramalho, and F. Valentin, Multiscale and residual-free bubble functions for RAD problems, </a:t>
            </a:r>
            <a:r>
              <a:rPr b="0" i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t. J. Multiscale Comput. Eng., 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 (2005), pp. 297-  3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5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 Y. Hou and X.-H. Wu, A multiscale finite element method for elliptic problems in composite materials and porous medi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. Comput. Phys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4 (1997), pp. 169-189.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字方塊 32"/>
          <p:cNvSpPr/>
          <p:nvPr/>
        </p:nvSpPr>
        <p:spPr>
          <a:xfrm>
            <a:off x="1560600" y="26474760"/>
            <a:ext cx="102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果與討論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sults and discuss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字方塊 33"/>
          <p:cNvSpPr/>
          <p:nvPr/>
        </p:nvSpPr>
        <p:spPr>
          <a:xfrm>
            <a:off x="1601640" y="9182160"/>
            <a:ext cx="175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研究動機和背景介紹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Motivation and introduction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字方塊 34"/>
          <p:cNvSpPr/>
          <p:nvPr/>
        </p:nvSpPr>
        <p:spPr>
          <a:xfrm>
            <a:off x="1386000" y="5784840"/>
            <a:ext cx="1169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摘要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Abstract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字方塊 35"/>
          <p:cNvSpPr/>
          <p:nvPr/>
        </p:nvSpPr>
        <p:spPr>
          <a:xfrm flipV="1" rot="10800000">
            <a:off x="1560240" y="6773040"/>
            <a:ext cx="27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abstract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字方塊 36"/>
          <p:cNvSpPr/>
          <p:nvPr/>
        </p:nvSpPr>
        <p:spPr>
          <a:xfrm>
            <a:off x="1674720" y="10096560"/>
            <a:ext cx="273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motivation and introduction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字方塊 38"/>
          <p:cNvSpPr/>
          <p:nvPr/>
        </p:nvSpPr>
        <p:spPr>
          <a:xfrm>
            <a:off x="1674720" y="35445600"/>
            <a:ext cx="98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論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Conclus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字方塊 40"/>
          <p:cNvSpPr/>
          <p:nvPr/>
        </p:nvSpPr>
        <p:spPr>
          <a:xfrm>
            <a:off x="1674720" y="36166320"/>
            <a:ext cx="2721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e have proposed a novel LSFEM using continuous piecewise linear elements enriched with residual-free bubbles. This enriched LSFEM not only inherits the advantages of the primitive LSFEM but also exhibits the characteristics of the residual-free bubble method. Through a series of numerical experiments, the enriched LSFEM certainly demonstrates a superior performance over the primitive LSFEMs for solving convection-dominated problems. The above results have been generalized to the system of convection-dominated equations such as the steady MHD duct flows with a high Hartmann number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字方塊 41"/>
          <p:cNvSpPr/>
          <p:nvPr/>
        </p:nvSpPr>
        <p:spPr>
          <a:xfrm>
            <a:off x="1601640" y="38469960"/>
            <a:ext cx="138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主要參考文獻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ference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字方塊 23"/>
          <p:cNvSpPr/>
          <p:nvPr/>
        </p:nvSpPr>
        <p:spPr>
          <a:xfrm>
            <a:off x="1573200" y="27331920"/>
            <a:ext cx="115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ert your text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1"/>
          <p:cNvSpPr/>
          <p:nvPr/>
        </p:nvSpPr>
        <p:spPr>
          <a:xfrm>
            <a:off x="1411200" y="15357600"/>
            <a:ext cx="27795600" cy="1060272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字方塊 1"/>
          <p:cNvSpPr/>
          <p:nvPr/>
        </p:nvSpPr>
        <p:spPr>
          <a:xfrm>
            <a:off x="1550880" y="15587640"/>
            <a:ext cx="163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問題描述和研究方法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Problem description and metho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625040" y="16570440"/>
            <a:ext cx="118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problem description and mathematical method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圖片 3" descr=""/>
          <p:cNvPicPr/>
          <p:nvPr/>
        </p:nvPicPr>
        <p:blipFill>
          <a:blip r:embed="rId3"/>
          <a:stretch/>
        </p:blipFill>
        <p:spPr>
          <a:xfrm>
            <a:off x="1338120" y="803160"/>
            <a:ext cx="3027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0:28:33Z</dcterms:created>
  <dc:creator>Suh-Yuh Yang, NCU, Taiwan</dc:creator>
  <dc:description/>
  <dc:language>en-US</dc:language>
  <cp:lastModifiedBy>Microsoft Office 使用者</cp:lastModifiedBy>
  <dcterms:modified xsi:type="dcterms:W3CDTF">2025-02-15T12:06:42Z</dcterms:modified>
  <cp:revision>202</cp:revision>
  <dc:subject/>
  <dc:title>poster template</dc:title>
</cp:coreProperties>
</file>