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21599525" cy="302402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FAE-CDF3-421E-810B-B81AB51A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355-BE84-4524-A3F4-C22AF555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9F5-4036-4ECD-9ECA-E38E4D2E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E4A-68EB-4975-B6E1-CABF9AD8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665A-9D95-4FF1-BA49-DE2A28EA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CD68-9122-4797-88C8-B673200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6A51-AD4E-45B1-A503-42C9D6ED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79E-7085-4546-989A-225EDCC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40F-9DF8-48DC-8562-6F9E351B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5A74-3CD3-48B8-833A-FBCD31D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8543-E448-4CDD-8D25-336565F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D64-0715-48E1-AE08-97C631D8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7E7-8F3E-4B7D-AFB1-040B9BF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E525-EB13-4DF5-8EC5-716CD7A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F54-F573-4C05-93B5-1D4BD3A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5C24-1E04-413F-B742-3A1815DF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971F-16D0-4CB6-9818-F6C13FFE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7903-5C2C-4F9D-A933-2613ACF9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51DB-0566-4306-BBE0-C751966F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2993-C173-4D5B-96FC-ECC2522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9557-B3FD-467B-B5CC-933AEEE5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5231-49C9-4CA3-B36A-A3E7BFA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DEF-96BB-406A-8983-8C65ACE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FE84-6AF4-4D18-9D4D-01FBB47C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9AC0-B4B3-4FBA-8E30-C67A410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C62B-20DE-40E1-814B-9C4CB225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BBBE-CD3A-4E67-AA45-934BC336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BADA-BC08-482C-92AA-3EFD6A1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B507-02D0-4CFF-B713-EA96F170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ED77-0B60-48F6-BBFC-49741AFA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B10A-59AA-4163-A81A-C6F4ED0D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E75D-15BF-49C9-9008-C722296B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5301-1FFC-4FE5-B216-724CC9B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B3B-6A7D-4949-9C88-8538286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2A66-5EC9-4869-9BF8-DFF5740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BAE1-B045-4592-97A6-742E16FC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A92A-F032-494B-93AB-9B84954D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1F13-5CE9-4411-AE45-F8A7E17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5235-7342-4D7E-A26E-E0E55DD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F516-59FA-4268-B28B-685DE7C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8578-AFB2-4236-A56B-A80D7773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CB84-963F-442B-BA78-BDEB499D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40E0-C2FC-4EB9-A4B9-78065163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A76A-6E4B-4693-B222-8CB0A1BE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852-11D7-4DD8-BFFC-202383D4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7031-7592-496C-9CF1-33723725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D950-E8CC-48BC-92D4-04619BA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87FA2-6D98-4B4E-B0A8-BCAF753D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82A17-52C5-4950-84E7-4C23E7C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1904-6CD5-4A6D-8357-4D79584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3083-A1A8-4160-909A-D8251EB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3D9F-55D3-47D2-BA4A-E84CC588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2923-DCF5-4DFD-BB52-112BE50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AF78-BFF5-4819-9B69-59903350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275D-E20D-4137-9252-B745ABED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4A4-A4F3-4EBA-B487-1207F26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9689-028B-43A2-909D-CB435416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84D-B6C3-4818-BFD3-02F35C6E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3EA-6788-4261-B7B2-EC1C447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46C-2EA0-424A-8DBA-9F1F606A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ACDA-ADCC-4279-B893-42ECD555978B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147600" y="6391440"/>
            <a:ext cx="21312360" cy="6734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147600" y="6159600"/>
            <a:ext cx="21312360" cy="530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147600" y="13125600"/>
            <a:ext cx="21312360" cy="4856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A56-BE64-45EF-A017-2D9A98BB212C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163440" y="10478880"/>
            <a:ext cx="21291480" cy="404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63440" y="10325160"/>
            <a:ext cx="21291480" cy="201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160200" y="10887120"/>
            <a:ext cx="21294720" cy="20016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890360" y="27215640"/>
            <a:ext cx="94489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812-A1D6-4719-A2A4-D54A6D528767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F06B-6EA1-4547-8669-27338D8543D6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160200" y="20651040"/>
            <a:ext cx="21275640" cy="405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162000" y="20505600"/>
            <a:ext cx="21273840" cy="203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62000" y="21048840"/>
            <a:ext cx="21273840" cy="2124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158920" y="27215640"/>
            <a:ext cx="91807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0B0-8430-4BF6-97D5-F139A1391F3C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654200" y="1862280"/>
            <a:ext cx="18988200" cy="1754280"/>
            <a:chOff x="1654200" y="1862280"/>
            <a:chExt cx="18988200" cy="1754280"/>
          </a:xfrm>
        </p:grpSpPr>
        <p:sp>
          <p:nvSpPr>
            <p:cNvPr id="231" name="Text Box 2"/>
            <p:cNvSpPr/>
            <p:nvPr/>
          </p:nvSpPr>
          <p:spPr>
            <a:xfrm>
              <a:off x="3189240" y="1862280"/>
              <a:ext cx="15746760" cy="523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60000"/>
                </a:lnSpc>
                <a:spcBef>
                  <a:spcPts val="1562"/>
                </a:spcBef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一種影像對比強化的變分模型研究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654200" y="2640240"/>
              <a:ext cx="189882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X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28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0" lang="en-US" sz="2800" spc="-1" strike="noStrike">
                  <a:solidFill>
                    <a:srgbClr val="0000ff"/>
                  </a:solidFill>
                  <a:latin typeface="微軟正黑體"/>
                  <a:ea typeface="Arial Narrow"/>
                </a:rPr>
                <a:t>syyang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116000" y="4024440"/>
            <a:ext cx="19635840" cy="2085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16743240" y="39600"/>
            <a:ext cx="4730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</a:rPr>
              <a:t>National Central University, Taiwan, June  01, 2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198440" y="571680"/>
            <a:ext cx="19794600" cy="704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3113: </a:t>
            </a:r>
            <a:r>
              <a:rPr b="1" lang="zh-TW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數學影像處理專題期末海報展示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122480" y="6434280"/>
            <a:ext cx="19635840" cy="41637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084320" y="18626040"/>
            <a:ext cx="19634040" cy="60930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084320" y="24936480"/>
            <a:ext cx="19634040" cy="19699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236600" y="25141320"/>
            <a:ext cx="191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084320" y="27125640"/>
            <a:ext cx="19634040" cy="23382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049400" y="27735120"/>
            <a:ext cx="19943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206360" y="1870236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236600" y="6486480"/>
            <a:ext cx="12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084320" y="408636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206000" y="4771800"/>
            <a:ext cx="1950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287360" y="7132680"/>
            <a:ext cx="1934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287360" y="2503980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287360" y="25547760"/>
            <a:ext cx="19227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236600" y="27174960"/>
            <a:ext cx="98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216080" y="19307160"/>
            <a:ext cx="8138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101600" y="10848960"/>
            <a:ext cx="19634400" cy="74898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200240" y="11010960"/>
            <a:ext cx="115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419120" y="11704680"/>
            <a:ext cx="8134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2"/>
          <a:stretch/>
        </p:blipFill>
        <p:spPr>
          <a:xfrm>
            <a:off x="1049400" y="566640"/>
            <a:ext cx="2139840" cy="1806840"/>
          </a:xfrm>
          <a:prstGeom prst="rect">
            <a:avLst/>
          </a:prstGeom>
          <a:ln w="0">
            <a:noFill/>
          </a:ln>
        </p:spPr>
      </p:pic>
      <p:sp>
        <p:nvSpPr>
          <p:cNvPr id="255" name="文字方塊 1"/>
          <p:cNvSpPr/>
          <p:nvPr/>
        </p:nvSpPr>
        <p:spPr>
          <a:xfrm>
            <a:off x="17651520" y="542124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5-02-15T12:10:06Z</dcterms:modified>
  <cp:revision>205</cp:revision>
  <dc:subject/>
  <dc:title>poster template</dc:title>
</cp:coreProperties>
</file>