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30279975" cy="4280693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18C-C166-4894-90B4-A570FE4F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0A4-D6C1-4E96-855F-2ED3E91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3B2-4A67-4D98-8B40-4BD2AFEB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927-5A47-44DF-98A2-0DEC6413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E8F-8C2D-4AA6-905F-C57840F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8C7C-2193-461D-A2BF-8FDA46EA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000-EF43-4ED1-BFDD-642086F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94C-0411-491C-8A14-F3C012FA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B666-70A0-4621-86A2-27ACE051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3BA0-4EC5-4A39-860C-AA77E1E7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BB9-9A93-4F8B-AA59-9A9EE4F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A4B-2755-4293-AADB-34D11FA3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747-3E8E-4E3B-BE91-93AF565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B5E-582B-43BC-9E27-1AA0371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C8E8-E3EC-48FC-86D9-8129A499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773-5758-4A71-9529-FD052351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D12-51D1-4937-8DC3-3C6FF0B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6BAB-328F-4790-8D2A-52FD8CD1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015A-0E74-405E-A863-670AAEA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1ED1-213E-4FE5-AC93-3FE81154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EC33-6AC1-4AF6-834A-2786B0D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48B0-03A4-4467-9C00-48BF367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488-9D72-4576-BE99-7759129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6B36-CB5E-4969-9C06-CDC396C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4D3E-9880-40E1-964F-C0332D2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F2F9-FDFD-492C-99CC-84540BD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F4C7-9B51-410A-89BD-88F440E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F4B6-BD06-4803-8BE8-4530937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3FA6-5830-4576-A7C9-A0C92129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4C10-2B72-4288-B62F-989E081B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A813-4D1A-445F-A61A-A3E89701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3197C-D8EF-4BF8-A6F2-CBAC52F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A8D5-8A46-4EB2-9CBC-8FB11BEB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D35-E7BC-413A-A235-65377D1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B199-3EDB-4070-9012-C675C47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646D-CC1F-4845-9BBA-6FC78C6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3698-F92D-42E9-BDCE-8B5D1AB1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52AF-8805-4067-B074-F0BE06D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5488-038C-4713-A433-6625B97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7C42-C1A9-4BEE-8CEB-3193D18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DE9B-0E4F-4293-856B-B500484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AD12-07DC-41D3-BE00-21737AE4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E622-4AAE-4FC1-A4A6-12BE6E60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42D2-1E17-4A16-8FE2-C55805E4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D0F-DB2A-428C-A722-0F06115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F7151-4C86-488D-889D-E238CB27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6984-EF96-456E-B0AA-7E5D35B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5E4F-7552-442A-85B1-5B35146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79F3-3297-493E-884C-41C156E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AA31-EDB3-4B4E-BCA1-CA80B72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3C0C-A43D-40F5-A4C2-65E2E6C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53FC-A032-430A-8BA9-DD45844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AA693-5419-44B3-BE89-0FCE74B5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8E5C-0000-4A81-A5B5-3795373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E39B-2496-4BD1-85FB-58AC308B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E77-00D5-4AA4-BC45-6E9AA19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FE1E9-62AF-45A0-9ABA-ADF53A84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5CE-4BE1-4B27-A62D-7477DF4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99B-14AF-4150-BA94-51FA9189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8E0-8D8B-44B6-B7AF-F3A0E7E8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1C1-C92E-42C2-A0B9-94CD077B6E0F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08080" y="9047160"/>
            <a:ext cx="29874960" cy="953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8080" y="8718480"/>
            <a:ext cx="29874960" cy="752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08080" y="18579960"/>
            <a:ext cx="29874960" cy="689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1BB9-44BC-474B-B6FB-8B7B4959E3B7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230040" y="14834160"/>
            <a:ext cx="29848320" cy="571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28600" y="14616000"/>
            <a:ext cx="29849760" cy="28584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60" y="15411600"/>
            <a:ext cx="29853000" cy="284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49240" y="38527200"/>
            <a:ext cx="1324764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A8A-850D-4410-8BE0-FD94F999C940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09E-D3FE-44F7-AC81-B4F2C48AA2AD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225360" y="29235240"/>
            <a:ext cx="29826000" cy="5716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27160" y="29027520"/>
            <a:ext cx="29824200" cy="287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8480" bIns="78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227160" y="29795760"/>
            <a:ext cx="29824200" cy="303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94320" bIns="9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27240" y="38527200"/>
            <a:ext cx="128700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41DA-B31C-480B-AEA1-871B35E11D80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hyperlink" Target="mailto:xxxx@math.ncu.edu.t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441440" y="2638440"/>
            <a:ext cx="27739800" cy="2576880"/>
            <a:chOff x="1441440" y="2638440"/>
            <a:chExt cx="27739800" cy="2576880"/>
          </a:xfrm>
        </p:grpSpPr>
        <p:sp>
          <p:nvSpPr>
            <p:cNvPr id="231" name="Text Box 2"/>
            <p:cNvSpPr/>
            <p:nvPr/>
          </p:nvSpPr>
          <p:spPr>
            <a:xfrm>
              <a:off x="1441440" y="2638440"/>
              <a:ext cx="27739800" cy="16959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   </a:t>
              </a: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低秩紋理訊息的主成分求解問題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441440" y="3737520"/>
              <a:ext cx="276325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廖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</a:t>
              </a: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，國立中央大學數學系三年級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2"/>
                </a:rPr>
                <a:t>syyang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432080" y="5697360"/>
            <a:ext cx="27795240" cy="29512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22772520" y="57240"/>
            <a:ext cx="747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Times New Roman"/>
              </a:rPr>
              <a:t>National Central University, Taiwan, June 18,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547640" y="809640"/>
            <a:ext cx="28022760" cy="100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7121: </a:t>
            </a:r>
            <a:r>
              <a:rPr b="1" lang="zh-TW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科學計算專題期末海報展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441440" y="9109080"/>
            <a:ext cx="27795600" cy="5892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386000" y="26368200"/>
            <a:ext cx="27795600" cy="862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386000" y="35301240"/>
            <a:ext cx="27795600" cy="27874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601640" y="35590320"/>
            <a:ext cx="271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386000" y="38398320"/>
            <a:ext cx="27795600" cy="33116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338120" y="39261960"/>
            <a:ext cx="2823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560600" y="26474760"/>
            <a:ext cx="10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601640" y="9182160"/>
            <a:ext cx="17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386000" y="5784840"/>
            <a:ext cx="116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560240" y="6773040"/>
            <a:ext cx="27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674720" y="10096560"/>
            <a:ext cx="273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674720" y="3544560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674720" y="36166320"/>
            <a:ext cx="272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601640" y="38469960"/>
            <a:ext cx="13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573200" y="27331920"/>
            <a:ext cx="11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411200" y="15357600"/>
            <a:ext cx="27795600" cy="106027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550880" y="15587640"/>
            <a:ext cx="16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625040" y="16570440"/>
            <a:ext cx="11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3"/>
          <a:stretch/>
        </p:blipFill>
        <p:spPr>
          <a:xfrm>
            <a:off x="1338120" y="803160"/>
            <a:ext cx="3027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4-02-07T09:25:15Z</dcterms:modified>
  <cp:revision>206</cp:revision>
  <dc:subject/>
  <dc:title>poster template</dc:title>
</cp:coreProperties>
</file>