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21599525" cy="302402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944-81BC-44B3-A68A-AAD25CBC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16D-FA71-4287-90DB-3A521D0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006-92D0-4A6F-9563-A65ED7FF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A92-3A00-4519-AAE5-448B2C0D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C3CF-5A75-4A91-9125-46ADC36C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907-CB5D-4606-973A-338BF498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023-9A28-4C0E-96A9-1177A931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443F-D52A-48A5-97E2-733953F0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1A0-A85F-420B-AAA7-CFC0109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BA50-B978-4742-B9A8-5FECCA1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DF58-8DB1-48A3-9591-9B41115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D28-093E-4652-BE53-A5E95EC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6808-5EC8-4F47-A107-CCCE222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8F20-25DA-46FE-BCCE-B65396C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164A-3B00-4C7E-AD0E-D4D1B54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681-1BB0-4C43-BA74-DA780BC2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6361-07C4-49B8-8696-EE717E89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E6D0-EA83-46E7-BD8D-30393F40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45FD-5DC5-4027-A2A5-6E82C6D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0C45-7042-4AE9-BF0F-66448C5E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689C-9999-46EB-A653-1B8B53C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756A-4E9C-4BE8-AC0B-B575C8B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660-8616-488D-93AB-EEFA285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839C-512F-4C6D-B8C4-8C83D82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65A2-0794-4732-A3AB-81ADF5E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3758-6AF4-4CA2-AF73-1CE8BDD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8912-828F-476B-9538-4356924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F11D-F34C-48A4-8142-42D92E7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239B-B070-4135-B7C4-234A7F82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4842-6613-4152-8EDF-65540A48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BBFD-38E9-4876-8191-E4206DD8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2B04-3532-4A3D-84EA-2165748A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078E-ED58-4324-8529-36806CA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B37-03A6-4A90-B39A-5EC49578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F46A-2DA6-4084-81D9-E0AB0FC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76A6-485A-487B-9F48-8AE23E2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823D-5D96-44C2-BC4B-3273E253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E70C-F01D-429B-A743-FF9C568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D6ED-472C-4B99-AE06-4827805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9024-DC57-4A77-909B-64D1B29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B0E6-41F5-450B-9F61-6F790FB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2563-E348-4C0A-B590-8529C77B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A891-D14E-454C-B4DB-59ABC071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C95E-A489-45B4-8331-ADF51CE7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A8F-B24E-4A86-B476-9A8949C0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D7E3-AC9F-40A8-A806-6F552E9B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96D6-6F1D-4EE2-831A-1F00D12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D337-E287-427E-824E-3E9A1EF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87C5F-26C2-4175-9FB7-82936B0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2978-8AB2-4F0B-B7A4-F1B6497E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414D-55D3-4F77-B7A6-052E4BD7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DC59-DE54-4DB6-B6B6-2FD7A70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212E-2F1A-4003-9D21-B6A6549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75AC-6F4A-4A94-B2C3-9182DD9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2654-7BA5-457D-A87D-BFAEDFD7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79B-F647-40E1-AB15-3F6E30A0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1BBB-2DCC-4519-9827-2F63B03E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7CF-292B-4CEE-954B-29BA530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16A-3903-477D-A7B7-2F1588A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9B7-86A2-475B-8BE7-6F13EE9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29B-BB9E-4F4F-BE7E-6E6B6F4BF516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47600" y="6391440"/>
            <a:ext cx="21312360" cy="6734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47600" y="6159600"/>
            <a:ext cx="21312360" cy="530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47600" y="13125600"/>
            <a:ext cx="21312360" cy="4856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321-A8D6-45D3-BB8D-DDE992C9DF59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163440" y="10478880"/>
            <a:ext cx="21291480" cy="404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63440" y="10325160"/>
            <a:ext cx="21291480" cy="201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60200" y="10887120"/>
            <a:ext cx="21294720" cy="2001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890360" y="27215640"/>
            <a:ext cx="94489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C6C0-8143-48ED-B2DD-694AF3284E7B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BEE-A681-448C-A2B5-7D8D59347B5B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160200" y="20651040"/>
            <a:ext cx="21275640" cy="405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162000" y="20505600"/>
            <a:ext cx="21273840" cy="203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2000" y="21048840"/>
            <a:ext cx="21273840" cy="2124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158920" y="27215640"/>
            <a:ext cx="91807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491-0CC9-481A-B2D8-769397B53477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122480" y="1863720"/>
            <a:ext cx="19595880" cy="1752480"/>
            <a:chOff x="1122480" y="1863720"/>
            <a:chExt cx="19595880" cy="1752480"/>
          </a:xfrm>
        </p:grpSpPr>
        <p:sp>
          <p:nvSpPr>
            <p:cNvPr id="231" name="Text Box 2"/>
            <p:cNvSpPr/>
            <p:nvPr/>
          </p:nvSpPr>
          <p:spPr>
            <a:xfrm>
              <a:off x="1122480" y="1863720"/>
              <a:ext cx="19595880" cy="52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60000"/>
                </a:lnSpc>
                <a:spcBef>
                  <a:spcPts val="1562"/>
                </a:spcBef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 </a:t>
              </a: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低秩紋理訊息的主成分求解問題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122480" y="2639880"/>
              <a:ext cx="19519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廖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 x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或理學院學士班三年級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28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0" lang="en-US" sz="2800" spc="-1" strike="noStrike">
                  <a:solidFill>
                    <a:srgbClr val="0000ff"/>
                  </a:solidFill>
                  <a:latin typeface="微軟正黑體"/>
                  <a:ea typeface="Arial Narrow"/>
                </a:rPr>
                <a:t>syyang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116000" y="4024440"/>
            <a:ext cx="19635840" cy="2085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16416360" y="39600"/>
            <a:ext cx="5057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National Central University, Taiwan, June 18, 2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198440" y="571680"/>
            <a:ext cx="19794600" cy="704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7121: </a:t>
            </a:r>
            <a:r>
              <a:rPr b="1" lang="zh-TW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科學計算專題期末海報展示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122480" y="6434280"/>
            <a:ext cx="19635840" cy="41637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084320" y="18626040"/>
            <a:ext cx="19634040" cy="60930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084320" y="24936480"/>
            <a:ext cx="19634040" cy="19699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236600" y="25141320"/>
            <a:ext cx="19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084320" y="27125640"/>
            <a:ext cx="19634040" cy="23382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049400" y="27735120"/>
            <a:ext cx="19943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206360" y="1870236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236600" y="6486480"/>
            <a:ext cx="12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084320" y="408636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206000" y="4771800"/>
            <a:ext cx="1950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287360" y="7132680"/>
            <a:ext cx="1934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287360" y="250398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287360" y="25547760"/>
            <a:ext cx="19227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236600" y="27174960"/>
            <a:ext cx="98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216080" y="19307160"/>
            <a:ext cx="8138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101600" y="10848960"/>
            <a:ext cx="19634400" cy="74898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200240" y="11010960"/>
            <a:ext cx="11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419120" y="11704680"/>
            <a:ext cx="8134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2"/>
          <a:stretch/>
        </p:blipFill>
        <p:spPr>
          <a:xfrm>
            <a:off x="1049400" y="566640"/>
            <a:ext cx="2139840" cy="180684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"/>
          <p:cNvSpPr/>
          <p:nvPr/>
        </p:nvSpPr>
        <p:spPr>
          <a:xfrm>
            <a:off x="17651520" y="54212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4-02-07T09:27:14Z</dcterms:modified>
  <cp:revision>207</cp:revision>
  <dc:subject/>
  <dc:title>poster template</dc:title>
</cp:coreProperties>
</file>