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30279975" cy="4280693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5835-4C51-48C5-9C56-0E69939C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7C2A-B4FD-4DDC-8667-EE6830D3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9878-8FE0-4BEA-86CC-013658A1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72916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043144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2688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1172916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2043144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D640-47D5-4802-BACF-BBB8D307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9D0E-981F-4403-A548-3FD86957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97EB-C434-4D84-B486-E8C01BBB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66B0-44EA-42B6-AD17-65A520AD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D8B8-1078-40FA-976C-4BF0E878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DF01-85DA-46D4-8A5F-1AD52DEC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26880" y="1714320"/>
            <a:ext cx="2573820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1FA9-9241-4814-B1E2-3E38C30D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EAE4-7982-4F27-8B2E-0762CE8B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53F4-99D4-4CDC-9218-A3A4B0B6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FD59-CAD9-4C30-BB90-6BE7DAE7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D397-64E9-4C43-B57A-4AEDF930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ED90-D0B3-4147-AE19-E54580DF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CEDC-BCE8-40D1-94DC-DEBA742A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72916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043144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2688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1172916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2043144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6DEC-22B4-4703-9219-9C65CA67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129AB-DFC5-445E-93A7-9B0B2B0D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FA7A6-6AAD-407B-ACD1-95EF8777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061C2-51F7-493E-AFC2-AB755688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49FA0-EBDB-45E7-8D5C-3B63F3A3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48C34-3882-4E41-865A-0B0AA6E8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FF2-2F0F-455E-B66E-A6AC66C3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026880" y="1714320"/>
            <a:ext cx="2573820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13962-F5BF-4BA6-A803-FA82D9A7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2A9B8-799F-4915-989B-47D04A7F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0F9A4-6150-4E54-87AC-950DD16D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92F62-61F6-4EF5-9C43-87E8578E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E5F52-0EE4-46FF-B883-6940664B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67DB1-BB08-4706-90D2-3F76034B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72916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043144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02688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1172916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2043144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438D7-D9E1-49C2-B64D-7D10B980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39482-065D-469C-B16F-051768C8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6FC34-E047-4248-A7BF-296DE9C8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79784-0C7F-478A-A705-513AF6E9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E30F-BD76-4BBB-A84D-A9083442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1862B-D6F6-47D4-8C2F-DB2FCBFC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A8493-E199-4374-9A7E-43E8D3D7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026880" y="1714320"/>
            <a:ext cx="2573820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9425F-4CE1-4200-BF26-6D864E8B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B3C5B-B6AF-432C-94E9-F19E2ED6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7F555-DD77-4C56-A3A0-C72C6FAF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989DA-73C9-48DA-880B-B03DF862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52AE7-82F6-4937-94B9-ECBAC66F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36956-B80D-4C74-845C-D1BCFBCD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172916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043144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302688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1172916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2043144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DDAD0-13F1-42A8-AAA8-16F0C6AE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9287B-8F60-409C-85F7-73AEAC53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610E-2994-48B2-A5E2-23B4B041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E4150-FBC4-4914-973C-0A27B8FE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682E9-680F-41CD-A3A0-54123D41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EF352-711F-4931-B107-3AF8A824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02A3C-A4A7-43CA-820B-3FB9B835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026880" y="1714320"/>
            <a:ext cx="2573820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24662-ACF2-466A-9BDF-3DD8B64B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9C3DD-B711-4173-8F81-5660E338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52541-9251-4198-B6C8-69F34875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C8D0C-CD0F-40DC-9B43-D69AC2AC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77C8D-330E-4A3B-8DAB-16C6FDDD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21161-2912-4D50-A699-8E703FD8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26880" y="1714320"/>
            <a:ext cx="2573820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BBBC-AE6B-4DD1-9D6C-6FEDA5DA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172916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043144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302688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1172916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2043144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B285A-40CB-4CE9-8903-85A6D622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195-CBC4-4AFC-B7FC-96C26EA8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28E-4078-4DDE-8364-41472DBC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3380-8667-4E1A-B2CD-D11FCD3E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251000" indent="-1251000">
              <a:spcBef>
                <a:spcPts val="2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1" marL="2503440" indent="-1042920">
              <a:spcBef>
                <a:spcPts val="2650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2" marL="3757680" indent="-1042920">
              <a:spcBef>
                <a:spcPts val="2650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3" marL="5008680" indent="-1043280">
              <a:spcBef>
                <a:spcPts val="2650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4" marL="6262560" indent="-1042920">
              <a:spcBef>
                <a:spcPts val="2650"/>
              </a:spcBef>
              <a:buClr>
                <a:srgbClr val="a28e6a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5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6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0439000" y="38646000"/>
            <a:ext cx="8199360" cy="29736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26880" y="38527200"/>
            <a:ext cx="1312092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6680" y="39183840"/>
            <a:ext cx="1070280" cy="2017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C80B-7B9E-4284-9D85-3AB16CDCDE47}" type="slidenum">
              <a: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圓角矩形 7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圓角矩形 10"/>
          <p:cNvSpPr/>
          <p:nvPr/>
        </p:nvSpPr>
        <p:spPr>
          <a:xfrm>
            <a:off x="216000" y="434880"/>
            <a:ext cx="29847960" cy="41775120"/>
          </a:xfrm>
          <a:custGeom>
            <a:avLst/>
            <a:gdLst>
              <a:gd name="textAreaLeft" fmla="*/ 430920 w 29847960"/>
              <a:gd name="textAreaRight" fmla="*/ 29417040 w 29847960"/>
              <a:gd name="textAreaTop" fmla="*/ 430920 h 41775120"/>
              <a:gd name="textAreaBottom" fmla="*/ 41344200 h 41775120"/>
            </a:gdLst>
            <a:ahLst/>
            <a:rect l="textAreaLeft" t="textAreaTop" r="textAreaRight" b="textAreaBottom"/>
            <a:pathLst>
              <a:path w="21600" h="30231">
                <a:moveTo>
                  <a:pt x="1065" y="0"/>
                </a:moveTo>
                <a:arcTo wR="1065" hR="1065" stAng="16200000" swAng="-5400000"/>
                <a:lnTo>
                  <a:pt x="0" y="29166"/>
                </a:lnTo>
                <a:arcTo wR="1065" hR="1065" stAng="10800000" swAng="-5400000"/>
                <a:lnTo>
                  <a:pt x="20535" y="30231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矩形 11"/>
          <p:cNvSpPr/>
          <p:nvPr/>
        </p:nvSpPr>
        <p:spPr>
          <a:xfrm>
            <a:off x="208080" y="9047160"/>
            <a:ext cx="29874960" cy="9532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8080" y="8718480"/>
            <a:ext cx="29874960" cy="7524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14"/>
          <p:cNvSpPr/>
          <p:nvPr/>
        </p:nvSpPr>
        <p:spPr>
          <a:xfrm>
            <a:off x="208080" y="18579960"/>
            <a:ext cx="29874960" cy="6890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251000" indent="-1251000">
              <a:spcBef>
                <a:spcPts val="2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1" marL="2503440" indent="-1042920">
              <a:spcBef>
                <a:spcPts val="2650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2" marL="3757680" indent="-1042920">
              <a:spcBef>
                <a:spcPts val="2650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3" marL="5008680" indent="-1043280">
              <a:spcBef>
                <a:spcPts val="2650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4" marL="6262560" indent="-1042920">
              <a:spcBef>
                <a:spcPts val="2650"/>
              </a:spcBef>
              <a:buClr>
                <a:srgbClr val="a28e6a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5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6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0439000" y="38646000"/>
            <a:ext cx="8199360" cy="29736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026880" y="38527200"/>
            <a:ext cx="1312092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06680" y="39183840"/>
            <a:ext cx="1070280" cy="2017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AD71-2D2B-4C09-9213-BDDDDC7C6A6D}" type="slidenum">
              <a: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圓角矩形 7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圓角矩形 10"/>
          <p:cNvSpPr/>
          <p:nvPr/>
        </p:nvSpPr>
        <p:spPr>
          <a:xfrm>
            <a:off x="216000" y="434880"/>
            <a:ext cx="29847960" cy="41775120"/>
          </a:xfrm>
          <a:custGeom>
            <a:avLst/>
            <a:gdLst>
              <a:gd name="textAreaLeft" fmla="*/ 430920 w 29847960"/>
              <a:gd name="textAreaRight" fmla="*/ 29417040 w 29847960"/>
              <a:gd name="textAreaTop" fmla="*/ 430920 h 41775120"/>
              <a:gd name="textAreaBottom" fmla="*/ 41344200 h 41775120"/>
            </a:gdLst>
            <a:ahLst/>
            <a:rect l="textAreaLeft" t="textAreaTop" r="textAreaRight" b="textAreaBottom"/>
            <a:pathLst>
              <a:path w="21600" h="30231">
                <a:moveTo>
                  <a:pt x="1065" y="0"/>
                </a:moveTo>
                <a:arcTo wR="1065" hR="1065" stAng="16200000" swAng="-5400000"/>
                <a:lnTo>
                  <a:pt x="0" y="29166"/>
                </a:lnTo>
                <a:arcTo wR="1065" hR="1065" stAng="10800000" swAng="-5400000"/>
                <a:lnTo>
                  <a:pt x="20535" y="30231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矩形 11"/>
          <p:cNvSpPr/>
          <p:nvPr/>
        </p:nvSpPr>
        <p:spPr>
          <a:xfrm flipV="1">
            <a:off x="230040" y="14834160"/>
            <a:ext cx="29848320" cy="571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28600" y="14616000"/>
            <a:ext cx="29849760" cy="28584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77040" bIns="77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225360" y="15411600"/>
            <a:ext cx="29853000" cy="2840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75240" bIns="75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251000" indent="-1251000">
              <a:spcBef>
                <a:spcPts val="2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1" marL="2503440" indent="-1042920">
              <a:spcBef>
                <a:spcPts val="2650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2" marL="3757680" indent="-1042920">
              <a:spcBef>
                <a:spcPts val="2650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3" marL="5008680" indent="-1043280">
              <a:spcBef>
                <a:spcPts val="2650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4" marL="6262560" indent="-1042920">
              <a:spcBef>
                <a:spcPts val="2650"/>
              </a:spcBef>
              <a:buClr>
                <a:srgbClr val="a28e6a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5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6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20439000" y="38646000"/>
            <a:ext cx="8199360" cy="29736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649240" y="38527200"/>
            <a:ext cx="1324764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06680" y="39174840"/>
            <a:ext cx="1070280" cy="20174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5DFE-21F3-4CAF-B4EC-674D18872280}" type="slidenum">
              <a: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8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圓角矩形 7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矩形 9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圓角矩形 10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251000" indent="-1251000">
              <a:spcBef>
                <a:spcPts val="2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1" marL="2503440" indent="-1042920">
              <a:spcBef>
                <a:spcPts val="2650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2" marL="3757680" indent="-1042920">
              <a:spcBef>
                <a:spcPts val="2650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3" marL="5008680" indent="-1043280">
              <a:spcBef>
                <a:spcPts val="2650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4" marL="6262560" indent="-1042920">
              <a:spcBef>
                <a:spcPts val="2650"/>
              </a:spcBef>
              <a:buClr>
                <a:srgbClr val="a28e6a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5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6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20439000" y="38646000"/>
            <a:ext cx="8199360" cy="29736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026880" y="38527200"/>
            <a:ext cx="1312092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06680" y="39183840"/>
            <a:ext cx="1070280" cy="2017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FF1E-9D19-43A6-ABE7-189B74DC0638}" type="slidenum">
              <a: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8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圓角矩形 7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矩形 9"/>
          <p:cNvSpPr/>
          <p:nvPr/>
        </p:nvSpPr>
        <p:spPr>
          <a:xfrm flipV="1">
            <a:off x="225360" y="29235240"/>
            <a:ext cx="29826000" cy="5716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矩形 10"/>
          <p:cNvSpPr/>
          <p:nvPr/>
        </p:nvSpPr>
        <p:spPr>
          <a:xfrm>
            <a:off x="227160" y="29027520"/>
            <a:ext cx="29824200" cy="287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78480" bIns="78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矩形 11"/>
          <p:cNvSpPr/>
          <p:nvPr/>
        </p:nvSpPr>
        <p:spPr>
          <a:xfrm>
            <a:off x="227160" y="29795760"/>
            <a:ext cx="29824200" cy="3031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94320" bIns="9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251000" indent="-1251000">
              <a:spcBef>
                <a:spcPts val="2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1" marL="2503440" indent="-1042920">
              <a:spcBef>
                <a:spcPts val="2650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2" marL="3757680" indent="-1042920">
              <a:spcBef>
                <a:spcPts val="2650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3" marL="5008680" indent="-1043280">
              <a:spcBef>
                <a:spcPts val="2650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4" marL="6262560" indent="-1042920">
              <a:spcBef>
                <a:spcPts val="2650"/>
              </a:spcBef>
              <a:buClr>
                <a:srgbClr val="a28e6a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5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6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20439000" y="38646000"/>
            <a:ext cx="8199360" cy="29736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027240" y="38527200"/>
            <a:ext cx="1287000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706680" y="39174840"/>
            <a:ext cx="1070280" cy="20174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D65A-720B-4B12-8795-E9B1B47209C6}" type="slidenum">
              <a: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xxxx@math.ncu.edu.tw" TargetMode="External"/><Relationship Id="rId2" Type="http://schemas.openxmlformats.org/officeDocument/2006/relationships/hyperlink" Target="mailto:xxxx@math.ncu.edu.tw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253"/>
          <p:cNvGrpSpPr/>
          <p:nvPr/>
        </p:nvGrpSpPr>
        <p:grpSpPr>
          <a:xfrm>
            <a:off x="1441440" y="2638440"/>
            <a:ext cx="27739800" cy="2576880"/>
            <a:chOff x="1441440" y="2638440"/>
            <a:chExt cx="27739800" cy="2576880"/>
          </a:xfrm>
        </p:grpSpPr>
        <p:sp>
          <p:nvSpPr>
            <p:cNvPr id="231" name="Text Box 2"/>
            <p:cNvSpPr/>
            <p:nvPr/>
          </p:nvSpPr>
          <p:spPr>
            <a:xfrm>
              <a:off x="1441440" y="2638440"/>
              <a:ext cx="27739800" cy="169596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e9e5d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TW" sz="72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    </a:t>
              </a:r>
              <a:r>
                <a:rPr b="1" lang="zh-TW" sz="72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低秩紋理訊息的主成分求解問題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3"/>
            <p:cNvSpPr/>
            <p:nvPr/>
          </p:nvSpPr>
          <p:spPr>
            <a:xfrm>
              <a:off x="1441440" y="3737520"/>
              <a:ext cx="27632520" cy="14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TW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專題學生：廖</a:t>
              </a:r>
              <a:r>
                <a:rPr b="1" lang="en-US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XX</a:t>
              </a:r>
              <a:r>
                <a:rPr b="1" lang="zh-TW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，國立中央大學數學系三年級 </a:t>
              </a:r>
              <a:r>
                <a:rPr b="1" lang="en-US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(</a:t>
              </a:r>
              <a:r>
                <a:rPr b="1" lang="en-US" sz="4000" spc="-1" strike="noStrike" u="sng">
                  <a:solidFill>
                    <a:srgbClr val="cc9900"/>
                  </a:solidFill>
                  <a:uFillTx/>
                  <a:latin typeface="微軟正黑體"/>
                  <a:ea typeface="Arial Narrow"/>
                  <a:hlinkClick r:id="rId1"/>
                </a:rPr>
                <a:t>xxxxxxx@math.ncu.edu.tw</a:t>
              </a:r>
              <a:r>
                <a:rPr b="1" lang="en-US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TW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指導教授：楊肅煜，國立中央大學數學系 </a:t>
              </a:r>
              <a:r>
                <a:rPr b="1" lang="en-US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(</a:t>
              </a:r>
              <a:r>
                <a:rPr b="1" lang="en-US" sz="4000" spc="-1" strike="noStrike" u="sng">
                  <a:solidFill>
                    <a:srgbClr val="cc9900"/>
                  </a:solidFill>
                  <a:uFillTx/>
                  <a:latin typeface="微軟正黑體"/>
                  <a:ea typeface="Arial Narrow"/>
                  <a:hlinkClick r:id="rId2"/>
                </a:rPr>
                <a:t>syyang@math.ncu.edu.tw</a:t>
              </a:r>
              <a:r>
                <a:rPr b="1" lang="en-US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Rectangle 651"/>
          <p:cNvSpPr/>
          <p:nvPr/>
        </p:nvSpPr>
        <p:spPr>
          <a:xfrm>
            <a:off x="1432080" y="5697360"/>
            <a:ext cx="27795240" cy="295128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258"/>
          <p:cNvSpPr/>
          <p:nvPr/>
        </p:nvSpPr>
        <p:spPr>
          <a:xfrm>
            <a:off x="22772520" y="57240"/>
            <a:ext cx="747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Times New Roman"/>
              </a:rPr>
              <a:t>National Central University, Taiwan, June 18, 20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547640" y="809640"/>
            <a:ext cx="28022760" cy="100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MA7121: </a:t>
            </a:r>
            <a:r>
              <a:rPr b="1" lang="zh-TW" sz="60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科學計算專題期末海報展示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51"/>
          <p:cNvSpPr/>
          <p:nvPr/>
        </p:nvSpPr>
        <p:spPr>
          <a:xfrm>
            <a:off x="1441440" y="9109080"/>
            <a:ext cx="27795600" cy="589284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矩形 22"/>
          <p:cNvSpPr/>
          <p:nvPr/>
        </p:nvSpPr>
        <p:spPr>
          <a:xfrm>
            <a:off x="1386000" y="26368200"/>
            <a:ext cx="27795600" cy="862344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1386000" y="35301240"/>
            <a:ext cx="27795600" cy="278748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文字方塊 27"/>
          <p:cNvSpPr/>
          <p:nvPr/>
        </p:nvSpPr>
        <p:spPr>
          <a:xfrm>
            <a:off x="1601640" y="35590320"/>
            <a:ext cx="271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矩形 30"/>
          <p:cNvSpPr/>
          <p:nvPr/>
        </p:nvSpPr>
        <p:spPr>
          <a:xfrm>
            <a:off x="1386000" y="38398320"/>
            <a:ext cx="27795600" cy="331164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文字方塊 31"/>
          <p:cNvSpPr/>
          <p:nvPr/>
        </p:nvSpPr>
        <p:spPr>
          <a:xfrm>
            <a:off x="1338120" y="39261960"/>
            <a:ext cx="28232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1]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. Brezzi and A. Russo, Choosing bubbles for advection-diffusion problem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h. Models Meth. Appl. Sci.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(1994), pp. 571-58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2]  A. Cangiani and E. Suli, Enhanced RFB method, </a:t>
            </a:r>
            <a:r>
              <a:rPr b="0" i="1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Numer. Math., </a:t>
            </a: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01 (2005), pp. 273-3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3]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. P. Franca, S. L. Frey, and T. J. R. Hughes, Stabilized finite element methods: I. application to the AD model,</a:t>
            </a: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ut. Methods Appl. Mech. Engrg.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95 (1992), pp. 253-27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4]  L. P. Franca, J. V. A. Ramalho, and F. Valentin, Multiscale and residual-free bubble functions for RAD problems, </a:t>
            </a:r>
            <a:r>
              <a:rPr b="0" i="1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Int. J. Multiscale Comput. Eng., </a:t>
            </a: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3 (2005), pp. 297-  31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5]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 Y. Hou and X.-H. Wu, A multiscale finite element method for elliptic problems in composite materials and porous medi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. Comput. Phys.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4 (1997), pp. 169-189.</a:t>
            </a: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文字方塊 32"/>
          <p:cNvSpPr/>
          <p:nvPr/>
        </p:nvSpPr>
        <p:spPr>
          <a:xfrm>
            <a:off x="1560600" y="26474760"/>
            <a:ext cx="102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結果與討論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Results and discuss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文字方塊 33"/>
          <p:cNvSpPr/>
          <p:nvPr/>
        </p:nvSpPr>
        <p:spPr>
          <a:xfrm>
            <a:off x="1601640" y="9182160"/>
            <a:ext cx="1753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研究動機和背景介紹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Motivation and introduction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文字方塊 34"/>
          <p:cNvSpPr/>
          <p:nvPr/>
        </p:nvSpPr>
        <p:spPr>
          <a:xfrm>
            <a:off x="1386000" y="5784840"/>
            <a:ext cx="1169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摘要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Abstract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文字方塊 35"/>
          <p:cNvSpPr/>
          <p:nvPr/>
        </p:nvSpPr>
        <p:spPr>
          <a:xfrm flipV="1" rot="10800000">
            <a:off x="1560240" y="6773040"/>
            <a:ext cx="276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abstract he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文字方塊 36"/>
          <p:cNvSpPr/>
          <p:nvPr/>
        </p:nvSpPr>
        <p:spPr>
          <a:xfrm>
            <a:off x="1674720" y="10096560"/>
            <a:ext cx="273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motivation and introduction he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文字方塊 38"/>
          <p:cNvSpPr/>
          <p:nvPr/>
        </p:nvSpPr>
        <p:spPr>
          <a:xfrm>
            <a:off x="1674720" y="35445600"/>
            <a:ext cx="98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結論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Conclus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文字方塊 40"/>
          <p:cNvSpPr/>
          <p:nvPr/>
        </p:nvSpPr>
        <p:spPr>
          <a:xfrm>
            <a:off x="1674720" y="36166320"/>
            <a:ext cx="2721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We have proposed a novel LSFEM using continuous piecewise linear elements enriched with residual-free bubbles. This enriched LSFEM not only inherits the advantages of the primitive LSFEM but also exhibits the characteristics of the residual-free bubble method. Through a series of numerical experiments, the enriched LSFEM certainly demonstrates a superior performance over the primitive LSFEMs for solving convection-dominated problems. The above results have been generalized to the system of convection-dominated equations such as the steady MHD duct flows with a high Hartmann number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文字方塊 41"/>
          <p:cNvSpPr/>
          <p:nvPr/>
        </p:nvSpPr>
        <p:spPr>
          <a:xfrm>
            <a:off x="1601640" y="38469960"/>
            <a:ext cx="1389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主要參考文獻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Reference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文字方塊 23"/>
          <p:cNvSpPr/>
          <p:nvPr/>
        </p:nvSpPr>
        <p:spPr>
          <a:xfrm>
            <a:off x="1573200" y="27331920"/>
            <a:ext cx="115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Insert your text he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51"/>
          <p:cNvSpPr/>
          <p:nvPr/>
        </p:nvSpPr>
        <p:spPr>
          <a:xfrm>
            <a:off x="1411200" y="15357600"/>
            <a:ext cx="27795600" cy="1060272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文字方塊 1"/>
          <p:cNvSpPr/>
          <p:nvPr/>
        </p:nvSpPr>
        <p:spPr>
          <a:xfrm>
            <a:off x="1550880" y="15587640"/>
            <a:ext cx="1638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問題描述和研究方法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Problem description and metho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文字方塊 2"/>
          <p:cNvSpPr/>
          <p:nvPr/>
        </p:nvSpPr>
        <p:spPr>
          <a:xfrm>
            <a:off x="1625040" y="16570440"/>
            <a:ext cx="1189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problem description and mathematical method he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圖片 3" descr=""/>
          <p:cNvPicPr/>
          <p:nvPr/>
        </p:nvPicPr>
        <p:blipFill>
          <a:blip r:embed="rId3"/>
          <a:stretch/>
        </p:blipFill>
        <p:spPr>
          <a:xfrm>
            <a:off x="1338120" y="803160"/>
            <a:ext cx="30276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0:28:33Z</dcterms:created>
  <dc:creator>Suh-Yuh Yang, NCU, Taiwan</dc:creator>
  <dc:description/>
  <dc:language>en-US</dc:language>
  <cp:lastModifiedBy>Microsoft Office 使用者</cp:lastModifiedBy>
  <dcterms:modified xsi:type="dcterms:W3CDTF">2024-02-07T09:25:15Z</dcterms:modified>
  <cp:revision>206</cp:revision>
  <dc:subject/>
  <dc:title>poster template</dc:title>
</cp:coreProperties>
</file>