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21599525" cy="30240288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CB73-8717-4562-9D43-653B75DDC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0EFE-2733-46B4-A0F5-A2F20811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35FF-7301-4805-8F64-BCE5F1971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836604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57352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15856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836604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1457352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6BE5-CE25-40EE-8347-6C37E37E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4130-38DE-4B6C-ACB5-87D173B70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DDB7-9E0F-4E0B-8585-56391E22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CA50-1C51-410C-882E-916B5EA0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761F-F5AC-42BF-AC37-8070DC3F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00D3-55FC-4B83-AB6F-B0FAD120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158560" y="1211400"/>
            <a:ext cx="18359640" cy="233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B85E-2A8D-4484-9374-2CAB0AD3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61D2-0B30-4B67-958A-42085FDE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1E68-B6F6-4416-B2EA-AD503995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B558-131C-44B2-8540-DC2179F9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537C-B13D-423C-9609-C3B17638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0961-CA5B-43AE-85B8-75BE42AA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56F5-D687-4D37-BC3F-C65CB1B9F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836604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57352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15856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836604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1457352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0843-6FAE-458B-BBF7-755BA4EAC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CC3D5-B93E-46D8-9B33-B91AAD0C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63003-C4B8-4396-ADA1-FDD43C0B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AB8BF-BCB7-47A2-ABB9-4A82657F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19E7F-D28D-48FE-B06A-931D51C9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D3232-51AE-47D9-833B-4B57CF93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8509-65A2-4795-B9C6-B105F1CF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2158560" y="1211400"/>
            <a:ext cx="18359640" cy="233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07EE8-A273-4467-AE7C-9550D4AB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BE664-2E0B-4C63-9A65-7EA41A8B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3435D-AF47-4A68-BAD0-105003A2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8B6D6-B49E-4E06-A93A-AA32B7DF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5B8E7-B3B6-4166-A066-A1E8B11E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19425-75A2-45BD-BAB2-C492868D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836604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57352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215856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836604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1457352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01EDB-8102-4C4C-AD6A-5BCB9A8E9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1E0C3-DB26-4E99-909B-412408558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6EE0F-404E-4936-B011-BBF3366A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9064B-252C-4CE8-9990-53875656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9C91-D6F1-4DB1-9DE4-4E925690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E4954-066E-4B4E-8218-CC59FAE2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3274B-7337-4CF9-B232-74F34623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2158560" y="1211400"/>
            <a:ext cx="18359640" cy="233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3F7D9-BD81-4489-9773-3A3A529F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3EC91-C5F8-443F-A4DD-D7881F73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AC2A1-FD4C-4C91-971C-4D07A58C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AE04B-C119-4F69-A5FF-79CCF3DF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4A1AE-C862-403F-8914-60F0E30A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BC8F7-B692-40F9-99E6-A8B350BF4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836604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57352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215856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836604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1457352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E0DE0-5144-44BD-BBA7-DE806A499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9D803-1FE4-4238-87A6-9F8B0B0B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050C-E018-44A8-8391-88626161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C6D36-BA2E-4B2E-912A-851C2567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12F8C-DE61-4B1D-B8A5-41D0ECF6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4B63F-DB81-49E5-A589-B93B23B4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FCA5C-A751-4349-A030-CC218D69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2158560" y="1211400"/>
            <a:ext cx="18359640" cy="233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88E1C-78A9-48DF-9B5D-E86CE89E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DFAB2-DBD5-4EE1-AC1D-9258F4A7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F3F00-C9F4-48E9-BC5D-415BC3FB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17F92-F1E1-4CF8-ABC2-5687C2B1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E3AEF-CE98-48D3-A4A5-D257106A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523BA-6478-425E-918E-343DD24A8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158560" y="1211400"/>
            <a:ext cx="18359640" cy="233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4A44-E4C6-4DF6-9B85-DA5CD4EF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836604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57352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215856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836604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1457352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6319C-8CFA-4CA8-BF17-D143B240F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25D1-CC22-4572-B70D-06AE993E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6254-63BB-447C-98FD-173A7963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AB42-6A0C-48EF-9A93-10AF5A87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21599640" cy="302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152280" y="307800"/>
            <a:ext cx="21290040" cy="29514960"/>
          </a:xfrm>
          <a:custGeom>
            <a:avLst/>
            <a:gdLst>
              <a:gd name="textAreaLeft" fmla="*/ 307440 w 21290040"/>
              <a:gd name="textAreaRight" fmla="*/ 20982600 w 21290040"/>
              <a:gd name="textAreaTop" fmla="*/ 307440 h 29514960"/>
              <a:gd name="textAreaBottom" fmla="*/ 29207520 h 29514960"/>
            </a:gdLst>
            <a:ahLst/>
            <a:rect l="textAreaLeft" t="textAreaTop" r="textAreaRight" b="textAreaBottom"/>
            <a:pathLst>
              <a:path w="21600" h="29945">
                <a:moveTo>
                  <a:pt x="1065" y="0"/>
                </a:moveTo>
                <a:arcTo wR="1065" hR="1065" stAng="16200000" swAng="-5400000"/>
                <a:lnTo>
                  <a:pt x="0" y="28880"/>
                </a:lnTo>
                <a:arcTo wR="1065" hR="1065" stAng="10800000" swAng="-5400000"/>
                <a:lnTo>
                  <a:pt x="20535" y="29945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882720" indent="-882720">
              <a:spcBef>
                <a:spcPts val="187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1" marL="1766880" indent="-736560">
              <a:spcBef>
                <a:spcPts val="18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2" marL="2654280" indent="-736560">
              <a:spcBef>
                <a:spcPts val="18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3" marL="3537000" indent="-736560">
              <a:spcBef>
                <a:spcPts val="18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4" marL="4422600" indent="-736560">
              <a:spcBef>
                <a:spcPts val="1874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5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6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4579280" y="27300240"/>
            <a:ext cx="5848200" cy="21002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158920" y="27215640"/>
            <a:ext cx="9360000" cy="20163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503640" y="27679680"/>
            <a:ext cx="763560" cy="1425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CE6D-95A5-4897-A659-D6B37EC6767E}" type="slidenum">
              <a: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8"/>
          <p:cNvSpPr/>
          <p:nvPr/>
        </p:nvSpPr>
        <p:spPr>
          <a:xfrm>
            <a:off x="0" y="0"/>
            <a:ext cx="21599640" cy="302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圓角矩形 7"/>
          <p:cNvSpPr/>
          <p:nvPr/>
        </p:nvSpPr>
        <p:spPr>
          <a:xfrm>
            <a:off x="152280" y="307800"/>
            <a:ext cx="21290040" cy="29514960"/>
          </a:xfrm>
          <a:custGeom>
            <a:avLst/>
            <a:gdLst>
              <a:gd name="textAreaLeft" fmla="*/ 307440 w 21290040"/>
              <a:gd name="textAreaRight" fmla="*/ 20982600 w 21290040"/>
              <a:gd name="textAreaTop" fmla="*/ 307440 h 29514960"/>
              <a:gd name="textAreaBottom" fmla="*/ 29207520 h 29514960"/>
            </a:gdLst>
            <a:ahLst/>
            <a:rect l="textAreaLeft" t="textAreaTop" r="textAreaRight" b="textAreaBottom"/>
            <a:pathLst>
              <a:path w="21600" h="29945">
                <a:moveTo>
                  <a:pt x="1065" y="0"/>
                </a:moveTo>
                <a:arcTo wR="1065" hR="1065" stAng="16200000" swAng="-5400000"/>
                <a:lnTo>
                  <a:pt x="0" y="28880"/>
                </a:lnTo>
                <a:arcTo wR="1065" hR="1065" stAng="10800000" swAng="-5400000"/>
                <a:lnTo>
                  <a:pt x="20535" y="29945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0" y="0"/>
            <a:ext cx="21599640" cy="302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圓角矩形 10"/>
          <p:cNvSpPr/>
          <p:nvPr/>
        </p:nvSpPr>
        <p:spPr>
          <a:xfrm>
            <a:off x="154080" y="307800"/>
            <a:ext cx="21291480" cy="29510280"/>
          </a:xfrm>
          <a:custGeom>
            <a:avLst/>
            <a:gdLst>
              <a:gd name="textAreaLeft" fmla="*/ 307440 w 21291480"/>
              <a:gd name="textAreaRight" fmla="*/ 20984040 w 21291480"/>
              <a:gd name="textAreaTop" fmla="*/ 307440 h 29510280"/>
              <a:gd name="textAreaBottom" fmla="*/ 29202840 h 29510280"/>
            </a:gdLst>
            <a:ahLst/>
            <a:rect l="textAreaLeft" t="textAreaTop" r="textAreaRight" b="textAreaBottom"/>
            <a:pathLst>
              <a:path w="21600" h="29938">
                <a:moveTo>
                  <a:pt x="1065" y="0"/>
                </a:moveTo>
                <a:arcTo wR="1065" hR="1065" stAng="16200000" swAng="-5400000"/>
                <a:lnTo>
                  <a:pt x="0" y="28873"/>
                </a:lnTo>
                <a:arcTo wR="1065" hR="1065" stAng="10800000" swAng="-5400000"/>
                <a:lnTo>
                  <a:pt x="20535" y="29938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矩形 11"/>
          <p:cNvSpPr/>
          <p:nvPr/>
        </p:nvSpPr>
        <p:spPr>
          <a:xfrm>
            <a:off x="147600" y="6391440"/>
            <a:ext cx="21312360" cy="6734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147600" y="6159600"/>
            <a:ext cx="21312360" cy="530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矩形 14"/>
          <p:cNvSpPr/>
          <p:nvPr/>
        </p:nvSpPr>
        <p:spPr>
          <a:xfrm>
            <a:off x="147600" y="13125600"/>
            <a:ext cx="21312360" cy="4856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882720" indent="-882720">
              <a:spcBef>
                <a:spcPts val="187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1" marL="1766880" indent="-736560">
              <a:spcBef>
                <a:spcPts val="18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2" marL="2654280" indent="-736560">
              <a:spcBef>
                <a:spcPts val="18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3" marL="3537000" indent="-736560">
              <a:spcBef>
                <a:spcPts val="18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4" marL="4422600" indent="-736560">
              <a:spcBef>
                <a:spcPts val="1874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5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6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4579280" y="27300240"/>
            <a:ext cx="5848200" cy="21002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158920" y="27215640"/>
            <a:ext cx="9360000" cy="20163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503640" y="27679680"/>
            <a:ext cx="763560" cy="1425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F995-CCCE-418E-802E-09E003041101}" type="slidenum">
              <a: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8"/>
          <p:cNvSpPr/>
          <p:nvPr/>
        </p:nvSpPr>
        <p:spPr>
          <a:xfrm>
            <a:off x="0" y="0"/>
            <a:ext cx="21599640" cy="302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圓角矩形 7"/>
          <p:cNvSpPr/>
          <p:nvPr/>
        </p:nvSpPr>
        <p:spPr>
          <a:xfrm>
            <a:off x="152280" y="307800"/>
            <a:ext cx="21290040" cy="29514960"/>
          </a:xfrm>
          <a:custGeom>
            <a:avLst/>
            <a:gdLst>
              <a:gd name="textAreaLeft" fmla="*/ 307440 w 21290040"/>
              <a:gd name="textAreaRight" fmla="*/ 20982600 w 21290040"/>
              <a:gd name="textAreaTop" fmla="*/ 307440 h 29514960"/>
              <a:gd name="textAreaBottom" fmla="*/ 29207520 h 29514960"/>
            </a:gdLst>
            <a:ahLst/>
            <a:rect l="textAreaLeft" t="textAreaTop" r="textAreaRight" b="textAreaBottom"/>
            <a:pathLst>
              <a:path w="21600" h="29945">
                <a:moveTo>
                  <a:pt x="1065" y="0"/>
                </a:moveTo>
                <a:arcTo wR="1065" hR="1065" stAng="16200000" swAng="-5400000"/>
                <a:lnTo>
                  <a:pt x="0" y="28880"/>
                </a:lnTo>
                <a:arcTo wR="1065" hR="1065" stAng="10800000" swAng="-5400000"/>
                <a:lnTo>
                  <a:pt x="20535" y="29945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矩形 9"/>
          <p:cNvSpPr/>
          <p:nvPr/>
        </p:nvSpPr>
        <p:spPr>
          <a:xfrm>
            <a:off x="0" y="0"/>
            <a:ext cx="21599640" cy="302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圓角矩形 10"/>
          <p:cNvSpPr/>
          <p:nvPr/>
        </p:nvSpPr>
        <p:spPr>
          <a:xfrm>
            <a:off x="154080" y="307800"/>
            <a:ext cx="21291480" cy="29510280"/>
          </a:xfrm>
          <a:custGeom>
            <a:avLst/>
            <a:gdLst>
              <a:gd name="textAreaLeft" fmla="*/ 307440 w 21291480"/>
              <a:gd name="textAreaRight" fmla="*/ 20984040 w 21291480"/>
              <a:gd name="textAreaTop" fmla="*/ 307440 h 29510280"/>
              <a:gd name="textAreaBottom" fmla="*/ 29202840 h 29510280"/>
            </a:gdLst>
            <a:ahLst/>
            <a:rect l="textAreaLeft" t="textAreaTop" r="textAreaRight" b="textAreaBottom"/>
            <a:pathLst>
              <a:path w="21600" h="29938">
                <a:moveTo>
                  <a:pt x="1065" y="0"/>
                </a:moveTo>
                <a:arcTo wR="1065" hR="1065" stAng="16200000" swAng="-5400000"/>
                <a:lnTo>
                  <a:pt x="0" y="28873"/>
                </a:lnTo>
                <a:arcTo wR="1065" hR="1065" stAng="10800000" swAng="-5400000"/>
                <a:lnTo>
                  <a:pt x="20535" y="29938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矩形 11"/>
          <p:cNvSpPr/>
          <p:nvPr/>
        </p:nvSpPr>
        <p:spPr>
          <a:xfrm flipV="1">
            <a:off x="163440" y="10478880"/>
            <a:ext cx="21291480" cy="4046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163440" y="10325160"/>
            <a:ext cx="21291480" cy="201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54000" bIns="5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矩形 14"/>
          <p:cNvSpPr/>
          <p:nvPr/>
        </p:nvSpPr>
        <p:spPr>
          <a:xfrm>
            <a:off x="160200" y="10887120"/>
            <a:ext cx="21294720" cy="20016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882720" indent="-882720">
              <a:spcBef>
                <a:spcPts val="187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1" marL="1766880" indent="-736560">
              <a:spcBef>
                <a:spcPts val="18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2" marL="2654280" indent="-736560">
              <a:spcBef>
                <a:spcPts val="18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3" marL="3537000" indent="-736560">
              <a:spcBef>
                <a:spcPts val="18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4" marL="4422600" indent="-736560">
              <a:spcBef>
                <a:spcPts val="1874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5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6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14579280" y="27300240"/>
            <a:ext cx="5848200" cy="21002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1890360" y="27215640"/>
            <a:ext cx="9448920" cy="20163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503640" y="27673200"/>
            <a:ext cx="763560" cy="1425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83D3-F151-40EC-B125-E918D0E04C1F}" type="slidenum">
              <a: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8"/>
          <p:cNvSpPr/>
          <p:nvPr/>
        </p:nvSpPr>
        <p:spPr>
          <a:xfrm>
            <a:off x="0" y="0"/>
            <a:ext cx="21599640" cy="302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圓角矩形 7"/>
          <p:cNvSpPr/>
          <p:nvPr/>
        </p:nvSpPr>
        <p:spPr>
          <a:xfrm>
            <a:off x="152280" y="307800"/>
            <a:ext cx="21290040" cy="29514960"/>
          </a:xfrm>
          <a:custGeom>
            <a:avLst/>
            <a:gdLst>
              <a:gd name="textAreaLeft" fmla="*/ 307440 w 21290040"/>
              <a:gd name="textAreaRight" fmla="*/ 20982600 w 21290040"/>
              <a:gd name="textAreaTop" fmla="*/ 307440 h 29514960"/>
              <a:gd name="textAreaBottom" fmla="*/ 29207520 h 29514960"/>
            </a:gdLst>
            <a:ahLst/>
            <a:rect l="textAreaLeft" t="textAreaTop" r="textAreaRight" b="textAreaBottom"/>
            <a:pathLst>
              <a:path w="21600" h="29945">
                <a:moveTo>
                  <a:pt x="1065" y="0"/>
                </a:moveTo>
                <a:arcTo wR="1065" hR="1065" stAng="16200000" swAng="-5400000"/>
                <a:lnTo>
                  <a:pt x="0" y="28880"/>
                </a:lnTo>
                <a:arcTo wR="1065" hR="1065" stAng="10800000" swAng="-5400000"/>
                <a:lnTo>
                  <a:pt x="20535" y="29945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矩形 9"/>
          <p:cNvSpPr/>
          <p:nvPr/>
        </p:nvSpPr>
        <p:spPr>
          <a:xfrm>
            <a:off x="0" y="0"/>
            <a:ext cx="21599640" cy="302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圓角矩形 10"/>
          <p:cNvSpPr/>
          <p:nvPr/>
        </p:nvSpPr>
        <p:spPr>
          <a:xfrm>
            <a:off x="152280" y="307800"/>
            <a:ext cx="21290040" cy="29514960"/>
          </a:xfrm>
          <a:custGeom>
            <a:avLst/>
            <a:gdLst>
              <a:gd name="textAreaLeft" fmla="*/ 307440 w 21290040"/>
              <a:gd name="textAreaRight" fmla="*/ 20982600 w 21290040"/>
              <a:gd name="textAreaTop" fmla="*/ 307440 h 29514960"/>
              <a:gd name="textAreaBottom" fmla="*/ 29207520 h 29514960"/>
            </a:gdLst>
            <a:ahLst/>
            <a:rect l="textAreaLeft" t="textAreaTop" r="textAreaRight" b="textAreaBottom"/>
            <a:pathLst>
              <a:path w="21600" h="29945">
                <a:moveTo>
                  <a:pt x="1065" y="0"/>
                </a:moveTo>
                <a:arcTo wR="1065" hR="1065" stAng="16200000" swAng="-5400000"/>
                <a:lnTo>
                  <a:pt x="0" y="28880"/>
                </a:lnTo>
                <a:arcTo wR="1065" hR="1065" stAng="10800000" swAng="-5400000"/>
                <a:lnTo>
                  <a:pt x="20535" y="29945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882720" indent="-882720">
              <a:spcBef>
                <a:spcPts val="187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1" marL="1766880" indent="-736560">
              <a:spcBef>
                <a:spcPts val="18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2" marL="2654280" indent="-736560">
              <a:spcBef>
                <a:spcPts val="18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3" marL="3537000" indent="-736560">
              <a:spcBef>
                <a:spcPts val="18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4" marL="4422600" indent="-736560">
              <a:spcBef>
                <a:spcPts val="1874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5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6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14579280" y="27300240"/>
            <a:ext cx="5848200" cy="21002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2158920" y="27215640"/>
            <a:ext cx="9360000" cy="20163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503640" y="27679680"/>
            <a:ext cx="763560" cy="1425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CAFB-522A-4368-B9B7-DC6B1F814984}" type="slidenum">
              <a: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8"/>
          <p:cNvSpPr/>
          <p:nvPr/>
        </p:nvSpPr>
        <p:spPr>
          <a:xfrm>
            <a:off x="0" y="0"/>
            <a:ext cx="21599640" cy="302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圓角矩形 7"/>
          <p:cNvSpPr/>
          <p:nvPr/>
        </p:nvSpPr>
        <p:spPr>
          <a:xfrm>
            <a:off x="152280" y="307800"/>
            <a:ext cx="21290040" cy="29514960"/>
          </a:xfrm>
          <a:custGeom>
            <a:avLst/>
            <a:gdLst>
              <a:gd name="textAreaLeft" fmla="*/ 307440 w 21290040"/>
              <a:gd name="textAreaRight" fmla="*/ 20982600 w 21290040"/>
              <a:gd name="textAreaTop" fmla="*/ 307440 h 29514960"/>
              <a:gd name="textAreaBottom" fmla="*/ 29207520 h 29514960"/>
            </a:gdLst>
            <a:ahLst/>
            <a:rect l="textAreaLeft" t="textAreaTop" r="textAreaRight" b="textAreaBottom"/>
            <a:pathLst>
              <a:path w="21600" h="29945">
                <a:moveTo>
                  <a:pt x="1065" y="0"/>
                </a:moveTo>
                <a:arcTo wR="1065" hR="1065" stAng="16200000" swAng="-5400000"/>
                <a:lnTo>
                  <a:pt x="0" y="28880"/>
                </a:lnTo>
                <a:arcTo wR="1065" hR="1065" stAng="10800000" swAng="-5400000"/>
                <a:lnTo>
                  <a:pt x="20535" y="29945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矩形 9"/>
          <p:cNvSpPr/>
          <p:nvPr/>
        </p:nvSpPr>
        <p:spPr>
          <a:xfrm flipV="1">
            <a:off x="160200" y="20651040"/>
            <a:ext cx="21275640" cy="405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矩形 10"/>
          <p:cNvSpPr/>
          <p:nvPr/>
        </p:nvSpPr>
        <p:spPr>
          <a:xfrm>
            <a:off x="162000" y="20505600"/>
            <a:ext cx="21273840" cy="2034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55800" bIns="55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矩形 11"/>
          <p:cNvSpPr/>
          <p:nvPr/>
        </p:nvSpPr>
        <p:spPr>
          <a:xfrm>
            <a:off x="162000" y="21048840"/>
            <a:ext cx="21273840" cy="21240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64800" bIns="64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882720" indent="-882720">
              <a:spcBef>
                <a:spcPts val="187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1" marL="1766880" indent="-736560">
              <a:spcBef>
                <a:spcPts val="18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2" marL="2654280" indent="-736560">
              <a:spcBef>
                <a:spcPts val="18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3" marL="3537000" indent="-736560">
              <a:spcBef>
                <a:spcPts val="18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4" marL="4422600" indent="-736560">
              <a:spcBef>
                <a:spcPts val="1874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5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6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14579280" y="27300240"/>
            <a:ext cx="5848200" cy="21002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2158920" y="27215640"/>
            <a:ext cx="9180720" cy="20163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503640" y="27673200"/>
            <a:ext cx="763560" cy="1425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ADAC-0258-48A3-89D4-7BDEEA85ECD9}" type="slidenum">
              <a: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xxxx@math.ncu.edu.tw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1253"/>
          <p:cNvGrpSpPr/>
          <p:nvPr/>
        </p:nvGrpSpPr>
        <p:grpSpPr>
          <a:xfrm>
            <a:off x="1122480" y="1863720"/>
            <a:ext cx="19595880" cy="1752480"/>
            <a:chOff x="1122480" y="1863720"/>
            <a:chExt cx="19595880" cy="1752480"/>
          </a:xfrm>
        </p:grpSpPr>
        <p:sp>
          <p:nvSpPr>
            <p:cNvPr id="231" name="Text Box 2"/>
            <p:cNvSpPr/>
            <p:nvPr/>
          </p:nvSpPr>
          <p:spPr>
            <a:xfrm>
              <a:off x="1122480" y="1863720"/>
              <a:ext cx="19595880" cy="52344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e9e5d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spAutoFit/>
            </a:bodyPr>
            <a:p>
              <a:pPr algn="ctr">
                <a:lnSpc>
                  <a:spcPct val="60000"/>
                </a:lnSpc>
                <a:spcBef>
                  <a:spcPts val="1562"/>
                </a:spcBef>
                <a:tabLst>
                  <a:tab algn="l" pos="0"/>
                  <a:tab algn="l" pos="636480"/>
                  <a:tab algn="l" pos="1273320"/>
                  <a:tab algn="l" pos="1909800"/>
                  <a:tab algn="l" pos="2546280"/>
                  <a:tab algn="l" pos="3182760"/>
                  <a:tab algn="l" pos="3819600"/>
                  <a:tab algn="l" pos="4456080"/>
                  <a:tab algn="l" pos="5092560"/>
                  <a:tab algn="l" pos="5729400"/>
                  <a:tab algn="l" pos="6365880"/>
                  <a:tab algn="l" pos="7002360"/>
                  <a:tab algn="l" pos="7639200"/>
                  <a:tab algn="l" pos="8275680"/>
                  <a:tab algn="l" pos="8912160"/>
                  <a:tab algn="l" pos="9548640"/>
                  <a:tab algn="l" pos="10185480"/>
                  <a:tab algn="l" pos="10821960"/>
                </a:tabLst>
              </a:pPr>
              <a:r>
                <a:rPr b="1" lang="zh-TW" sz="5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  </a:t>
              </a:r>
              <a:r>
                <a:rPr b="1" lang="zh-TW" sz="5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低秩紋理訊息的主成分求解問題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3"/>
            <p:cNvSpPr/>
            <p:nvPr/>
          </p:nvSpPr>
          <p:spPr>
            <a:xfrm>
              <a:off x="1122480" y="2639880"/>
              <a:ext cx="1951992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zh-TW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專題學生：廖</a:t>
              </a:r>
              <a:r>
                <a:rPr b="1" lang="en-US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 </a:t>
              </a:r>
              <a:r>
                <a:rPr b="1" lang="en-US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x x/</a:t>
              </a:r>
              <a:r>
                <a:rPr b="1" lang="zh-TW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國立中央大學數學系或理學院學士班三年級 </a:t>
              </a:r>
              <a:r>
                <a:rPr b="1" lang="en-US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(</a:t>
              </a:r>
              <a:r>
                <a:rPr b="1" lang="en-US" sz="2800" spc="-1" strike="noStrike" u="sng">
                  <a:solidFill>
                    <a:srgbClr val="cc9900"/>
                  </a:solidFill>
                  <a:uFillTx/>
                  <a:latin typeface="微軟正黑體"/>
                  <a:ea typeface="Arial Narrow"/>
                  <a:hlinkClick r:id="rId1"/>
                </a:rPr>
                <a:t>xxxxxxx@math.ncu.edu.tw</a:t>
              </a:r>
              <a:r>
                <a:rPr b="1" lang="en-US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zh-TW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指導教授：楊肅煜</a:t>
              </a:r>
              <a:r>
                <a:rPr b="1" lang="en-US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/</a:t>
              </a:r>
              <a:r>
                <a:rPr b="1" lang="zh-TW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國立中央大學數學系 </a:t>
              </a:r>
              <a:r>
                <a:rPr b="1" lang="en-US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(</a:t>
              </a:r>
              <a:r>
                <a:rPr b="0" lang="en-US" sz="2800" spc="-1" strike="noStrike">
                  <a:solidFill>
                    <a:srgbClr val="0000ff"/>
                  </a:solidFill>
                  <a:latin typeface="微軟正黑體"/>
                  <a:ea typeface="Arial Narrow"/>
                </a:rPr>
                <a:t>syyang@math.ncu.edu.tw</a:t>
              </a:r>
              <a:r>
                <a:rPr b="1" lang="en-US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Rectangle 651"/>
          <p:cNvSpPr/>
          <p:nvPr/>
        </p:nvSpPr>
        <p:spPr>
          <a:xfrm>
            <a:off x="1116000" y="4024440"/>
            <a:ext cx="19635840" cy="208584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2280" rIns="6228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258"/>
          <p:cNvSpPr/>
          <p:nvPr/>
        </p:nvSpPr>
        <p:spPr>
          <a:xfrm>
            <a:off x="16416360" y="39600"/>
            <a:ext cx="5057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Times New Roman"/>
              </a:rPr>
              <a:t>National Central University, Taiwan, June 18, 20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1198440" y="571680"/>
            <a:ext cx="19794600" cy="704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00000"/>
                </a:solidFill>
                <a:latin typeface="微軟正黑體"/>
                <a:ea typeface="微軟正黑體"/>
              </a:rPr>
              <a:t>MA7121: </a:t>
            </a:r>
            <a:r>
              <a:rPr b="1" lang="zh-TW" sz="4200" spc="-1" strike="noStrike">
                <a:solidFill>
                  <a:srgbClr val="c00000"/>
                </a:solidFill>
                <a:latin typeface="微軟正黑體"/>
                <a:ea typeface="微軟正黑體"/>
              </a:rPr>
              <a:t>科學計算專題期末海報展示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51"/>
          <p:cNvSpPr/>
          <p:nvPr/>
        </p:nvSpPr>
        <p:spPr>
          <a:xfrm>
            <a:off x="1122480" y="6434280"/>
            <a:ext cx="19635840" cy="416376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2280" rIns="6228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矩形 22"/>
          <p:cNvSpPr/>
          <p:nvPr/>
        </p:nvSpPr>
        <p:spPr>
          <a:xfrm>
            <a:off x="1084320" y="18626040"/>
            <a:ext cx="19634040" cy="609300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矩形 25"/>
          <p:cNvSpPr/>
          <p:nvPr/>
        </p:nvSpPr>
        <p:spPr>
          <a:xfrm>
            <a:off x="1084320" y="24936480"/>
            <a:ext cx="19634040" cy="196992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20304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0304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0304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文字方塊 27"/>
          <p:cNvSpPr/>
          <p:nvPr/>
        </p:nvSpPr>
        <p:spPr>
          <a:xfrm>
            <a:off x="1236600" y="25141320"/>
            <a:ext cx="191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8728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矩形 30"/>
          <p:cNvSpPr/>
          <p:nvPr/>
        </p:nvSpPr>
        <p:spPr>
          <a:xfrm>
            <a:off x="1084320" y="27125640"/>
            <a:ext cx="19634040" cy="233820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文字方塊 31"/>
          <p:cNvSpPr/>
          <p:nvPr/>
        </p:nvSpPr>
        <p:spPr>
          <a:xfrm>
            <a:off x="1049400" y="27735120"/>
            <a:ext cx="1994364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1]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. Brezzi and A. Russo, Choosing bubbles for advection-diffusion problems,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Math. Models Meth. Appl. Sci.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4 (1994), pp. 571-587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2]  A. Cangiani and E. Suli, Enhanced RFB method, </a:t>
            </a:r>
            <a:r>
              <a:rPr b="0" i="1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Numer. Math., </a:t>
            </a: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01 (2005), pp. 273-308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3]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L. P. Franca, S. L. Frey, and T. J. R. Hughes, Stabilized finite element methods: I. application to the AD model,</a:t>
            </a: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Comput. Methods Appl. Mech. Engrg.,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95 (1992), pp. 253-276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4]  L. P. Franca, J. V. A. Ramalho, and F. Valentin, Multiscale and residual-free bubble functions for RAD problems, </a:t>
            </a:r>
            <a:r>
              <a:rPr b="0" i="1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Int. J. Multiscale Comput. Eng., </a:t>
            </a: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3 (2005), pp. 297-  312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5]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. Y. Hou and X.-H. Wu, A multiscale finite element method for elliptic problems in composite materials and porous media,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J. Comput. Phys.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34 (1997), pp. 169-189.</a:t>
            </a: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文字方塊 32"/>
          <p:cNvSpPr/>
          <p:nvPr/>
        </p:nvSpPr>
        <p:spPr>
          <a:xfrm>
            <a:off x="1206360" y="18702360"/>
            <a:ext cx="722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結果與討論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Results and discus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文字方塊 33"/>
          <p:cNvSpPr/>
          <p:nvPr/>
        </p:nvSpPr>
        <p:spPr>
          <a:xfrm>
            <a:off x="1236600" y="6486480"/>
            <a:ext cx="123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研究動機和背景介紹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Motivation and introduction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文字方塊 34"/>
          <p:cNvSpPr/>
          <p:nvPr/>
        </p:nvSpPr>
        <p:spPr>
          <a:xfrm>
            <a:off x="1084320" y="4086360"/>
            <a:ext cx="82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摘要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Abstrac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文字方塊 35"/>
          <p:cNvSpPr/>
          <p:nvPr/>
        </p:nvSpPr>
        <p:spPr>
          <a:xfrm flipV="1" rot="10800000">
            <a:off x="1206000" y="4771800"/>
            <a:ext cx="19508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lease insert the abstract here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文字方塊 36"/>
          <p:cNvSpPr/>
          <p:nvPr/>
        </p:nvSpPr>
        <p:spPr>
          <a:xfrm>
            <a:off x="1287360" y="7132680"/>
            <a:ext cx="19342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lease insert the motivation and introduction here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文字方塊 38"/>
          <p:cNvSpPr/>
          <p:nvPr/>
        </p:nvSpPr>
        <p:spPr>
          <a:xfrm>
            <a:off x="1287360" y="25039800"/>
            <a:ext cx="69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結論 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Conclu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文字方塊 40"/>
          <p:cNvSpPr/>
          <p:nvPr/>
        </p:nvSpPr>
        <p:spPr>
          <a:xfrm>
            <a:off x="1287360" y="25547760"/>
            <a:ext cx="192279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We have proposed a novel LSFEM using continuous piecewise linear elements enriched with residual-free bubbles. This enriched LSFEM not only inherits the advantages of the primitive LSFEM but also exhibits the characteristics of the residual-free bubble method. Through a series of numerical experiments, the enriched LSFEM certainly demonstrates a superior performance over the primitive LSFEMs for solving convection-dominated problems. The above results have been generalized to the system of convection-dominated equations such as the steady MHD duct flows with a high Hartmann number.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文字方塊 41"/>
          <p:cNvSpPr/>
          <p:nvPr/>
        </p:nvSpPr>
        <p:spPr>
          <a:xfrm>
            <a:off x="1236600" y="27174960"/>
            <a:ext cx="981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主要參考文獻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Referenc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文字方塊 23"/>
          <p:cNvSpPr/>
          <p:nvPr/>
        </p:nvSpPr>
        <p:spPr>
          <a:xfrm>
            <a:off x="1216080" y="19307160"/>
            <a:ext cx="81388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Insert your text here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651"/>
          <p:cNvSpPr/>
          <p:nvPr/>
        </p:nvSpPr>
        <p:spPr>
          <a:xfrm>
            <a:off x="1101600" y="10848960"/>
            <a:ext cx="19634400" cy="748980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2280" rIns="6228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文字方塊 1"/>
          <p:cNvSpPr/>
          <p:nvPr/>
        </p:nvSpPr>
        <p:spPr>
          <a:xfrm>
            <a:off x="1200240" y="11010960"/>
            <a:ext cx="115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問題描述和研究方法 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Problem description and metho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文字方塊 2"/>
          <p:cNvSpPr/>
          <p:nvPr/>
        </p:nvSpPr>
        <p:spPr>
          <a:xfrm>
            <a:off x="1419120" y="11704680"/>
            <a:ext cx="8134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lease insert the problem description and mathematical method here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圖片 3" descr=""/>
          <p:cNvPicPr/>
          <p:nvPr/>
        </p:nvPicPr>
        <p:blipFill>
          <a:blip r:embed="rId2"/>
          <a:stretch/>
        </p:blipFill>
        <p:spPr>
          <a:xfrm>
            <a:off x="1049400" y="566640"/>
            <a:ext cx="2139840" cy="1806840"/>
          </a:xfrm>
          <a:prstGeom prst="rect">
            <a:avLst/>
          </a:prstGeom>
          <a:ln w="0">
            <a:noFill/>
          </a:ln>
        </p:spPr>
      </p:pic>
      <p:sp>
        <p:nvSpPr>
          <p:cNvPr id="255" name="文字方塊 1"/>
          <p:cNvSpPr/>
          <p:nvPr/>
        </p:nvSpPr>
        <p:spPr>
          <a:xfrm>
            <a:off x="17651520" y="5421240"/>
            <a:ext cx="183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0:28:33Z</dcterms:created>
  <dc:creator>Suh-Yuh Yang, NCU, Taiwan</dc:creator>
  <dc:description/>
  <dc:language>en-US</dc:language>
  <cp:lastModifiedBy>Microsoft Office 使用者</cp:lastModifiedBy>
  <dcterms:modified xsi:type="dcterms:W3CDTF">2024-02-07T09:27:14Z</dcterms:modified>
  <cp:revision>207</cp:revision>
  <dc:subject/>
  <dc:title>poster template</dc:title>
</cp:coreProperties>
</file>